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gif" ContentType="image/gi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25F-C15A-46CB-9421-CA4C3E8F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6FE-436C-4B27-A4FE-C0C99585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675-1AFC-4D2D-98C1-E9603501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067-2C52-485F-91CD-BC4C646A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C839-2C88-4382-B994-512CC82E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2E1D-2449-4D1D-8802-5D912F7E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13B6-11DC-4B0C-B3E5-6E1D313F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DECA-B552-42D2-A005-7FB6460E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FDD1-9924-4030-8F63-6F14C951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7A04-CF30-44F2-AE44-FCCD60D4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89C1-E157-420D-81A0-62EA1298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C0E-8A9C-4424-B5C2-3BDA3F68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B2F6-EAF3-470E-8FD8-7AFD7E5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D138-4F27-48FD-B2C3-9EEFFD9C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45A5-80FE-4016-B034-F0859008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4454-D278-41B5-9169-02AB3758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EF73-9C58-4022-AC0C-2E64B138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31C-6FF2-4863-AB7A-37ED4337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971-3D70-4296-A523-B1C0C6D9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0D5-520D-4455-8E41-274083A5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EA2-0B05-4E44-903D-B3B2E92D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AF8-CB14-4E26-8B81-AA873BC9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D9D-FA3F-4B52-A94D-E1E3907F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87B-68F6-42FC-BC84-E11599C4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2B99-6DF6-42BD-883D-82C1585C4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C38D-4DED-4A9C-A5B5-1169F0D8C2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kremlion.ru/praviteli/yaroslav/" TargetMode="External"/><Relationship Id="rId2" Type="http://schemas.openxmlformats.org/officeDocument/2006/relationships/hyperlink" Target="http://kremlion.ru/praviteli/yaroslav/" TargetMode="External"/><Relationship Id="rId3" Type="http://schemas.openxmlformats.org/officeDocument/2006/relationships/hyperlink" Target="http://kremlion.ru/praviteli/yaroslav/" TargetMode="External"/><Relationship Id="rId4" Type="http://schemas.openxmlformats.org/officeDocument/2006/relationships/hyperlink" Target="http://kremlion.ru/praviteli/yaroslav/" TargetMode="External"/><Relationship Id="rId5" Type="http://schemas.openxmlformats.org/officeDocument/2006/relationships/hyperlink" Target="http://kremlion.ru/praviteli/yaroslav/" TargetMode="External"/><Relationship Id="rId6" Type="http://schemas.openxmlformats.org/officeDocument/2006/relationships/hyperlink" Target="http://kremlion.ru/praviteli/yaroslav/" TargetMode="External"/><Relationship Id="rId7" Type="http://schemas.openxmlformats.org/officeDocument/2006/relationships/hyperlink" Target="http://kremlion.ru/praviteli/yaroslav/" TargetMode="External"/><Relationship Id="rId8" Type="http://schemas.openxmlformats.org/officeDocument/2006/relationships/hyperlink" Target="http://kremlion.ru/praviteli/yaroslav/" TargetMode="External"/><Relationship Id="rId9" Type="http://schemas.openxmlformats.org/officeDocument/2006/relationships/hyperlink" Target="http://kremlion.ru/praviteli/yaroslav/" TargetMode="External"/><Relationship Id="rId10" Type="http://schemas.openxmlformats.org/officeDocument/2006/relationships/hyperlink" Target="http://kremlion.ru/praviteli/yaroslav/" TargetMode="External"/><Relationship Id="rId11" Type="http://schemas.openxmlformats.org/officeDocument/2006/relationships/hyperlink" Target="http://www.kostyor.ru/archives/8-09/question.php" TargetMode="External"/><Relationship Id="rId12" Type="http://schemas.openxmlformats.org/officeDocument/2006/relationships/hyperlink" Target="http://www.kostyor.ru/archives/8-09/question.php" TargetMode="External"/><Relationship Id="rId13" Type="http://schemas.openxmlformats.org/officeDocument/2006/relationships/hyperlink" Target="http://www.kostyor.ru/archives/8-09/question.php" TargetMode="External"/><Relationship Id="rId14" Type="http://schemas.openxmlformats.org/officeDocument/2006/relationships/hyperlink" Target="http://www.kostyor.ru/archives/8-09/question.php" TargetMode="External"/><Relationship Id="rId15" Type="http://schemas.openxmlformats.org/officeDocument/2006/relationships/hyperlink" Target="http://www.kostyor.ru/archives/8-09/question.php" TargetMode="External"/><Relationship Id="rId16" Type="http://schemas.openxmlformats.org/officeDocument/2006/relationships/hyperlink" Target="http://www.kostyor.ru/archives/8-09/question.php" TargetMode="External"/><Relationship Id="rId17" Type="http://schemas.openxmlformats.org/officeDocument/2006/relationships/hyperlink" Target="http://www.kostyor.ru/archives/8-09/question.php" TargetMode="External"/><Relationship Id="rId18" Type="http://schemas.openxmlformats.org/officeDocument/2006/relationships/hyperlink" Target="http://www.kostyor.ru/archives/8-09/question.php" TargetMode="External"/><Relationship Id="rId19" Type="http://schemas.openxmlformats.org/officeDocument/2006/relationships/hyperlink" Target="http://www.kostyor.ru/archives/8-09/question.php" TargetMode="External"/><Relationship Id="rId20" Type="http://schemas.openxmlformats.org/officeDocument/2006/relationships/hyperlink" Target="http://www.kostyor.ru/archives/8-09/question.php" TargetMode="External"/><Relationship Id="rId21" Type="http://schemas.openxmlformats.org/officeDocument/2006/relationships/hyperlink" Target="http://www.kostyor.ru/archives/8-09/question.php" TargetMode="External"/><Relationship Id="rId22" Type="http://schemas.openxmlformats.org/officeDocument/2006/relationships/hyperlink" Target="http://www.kostyor.ru/archives/8-09/question.php" TargetMode="External"/><Relationship Id="rId23" Type="http://schemas.openxmlformats.org/officeDocument/2006/relationships/hyperlink" Target="http://www.kostyor.ru/archives/8-09/question.php" TargetMode="External"/><Relationship Id="rId24" Type="http://schemas.openxmlformats.org/officeDocument/2006/relationships/hyperlink" Target="http://www.russia-talk.com/history/09.htm" TargetMode="External"/><Relationship Id="rId25" Type="http://schemas.openxmlformats.org/officeDocument/2006/relationships/hyperlink" Target="http://www.russia-talk.com/history/09.htm" TargetMode="External"/><Relationship Id="rId26" Type="http://schemas.openxmlformats.org/officeDocument/2006/relationships/hyperlink" Target="http://www.russia-talk.com/history/09.htm" TargetMode="External"/><Relationship Id="rId27" Type="http://schemas.openxmlformats.org/officeDocument/2006/relationships/hyperlink" Target="http://www.russia-talk.com/history/09.htm" TargetMode="External"/><Relationship Id="rId28" Type="http://schemas.openxmlformats.org/officeDocument/2006/relationships/hyperlink" Target="http://www.russia-talk.com/history/09.htm" TargetMode="External"/><Relationship Id="rId29" Type="http://schemas.openxmlformats.org/officeDocument/2006/relationships/hyperlink" Target="http://www.russia-talk.com/history/09.htm" TargetMode="External"/><Relationship Id="rId30" Type="http://schemas.openxmlformats.org/officeDocument/2006/relationships/hyperlink" Target="http://www.russia-talk.com/history/09.htm" TargetMode="External"/><Relationship Id="rId31" Type="http://schemas.openxmlformats.org/officeDocument/2006/relationships/hyperlink" Target="http://www.russia-talk.com/history/09.htm" TargetMode="External"/><Relationship Id="rId32" Type="http://schemas.openxmlformats.org/officeDocument/2006/relationships/hyperlink" Target="http://www.russia-talk.com/history/09.htm" TargetMode="External"/><Relationship Id="rId33" Type="http://schemas.openxmlformats.org/officeDocument/2006/relationships/hyperlink" Target="http://www.russia-talk.com/history/09.htm" TargetMode="External"/><Relationship Id="rId34" Type="http://schemas.openxmlformats.org/officeDocument/2006/relationships/hyperlink" Target="http://www.russia-talk.com/history/09.htm" TargetMode="External"/><Relationship Id="rId35" Type="http://schemas.openxmlformats.org/officeDocument/2006/relationships/hyperlink" Target="http://www.russia-talk.com/history/09.htm" TargetMode="External"/><Relationship Id="rId36" Type="http://schemas.openxmlformats.org/officeDocument/2006/relationships/hyperlink" Target="http://www.russia-talk.com/history/09.htm" TargetMode="External"/><Relationship Id="rId37" Type="http://schemas.openxmlformats.org/officeDocument/2006/relationships/hyperlink" Target="http://rai77.ru/viewtopic.php?f=11&amp;p=305" TargetMode="External"/><Relationship Id="rId38" Type="http://schemas.openxmlformats.org/officeDocument/2006/relationships/hyperlink" Target="http://rai77.ru/viewtopic.php?f=11&amp;p=305" TargetMode="External"/><Relationship Id="rId39" Type="http://schemas.openxmlformats.org/officeDocument/2006/relationships/hyperlink" Target="http://rai77.ru/viewtopic.php?f=11&amp;p=305" TargetMode="External"/><Relationship Id="rId40" Type="http://schemas.openxmlformats.org/officeDocument/2006/relationships/hyperlink" Target="http://rai77.ru/viewtopic.php?f=11&amp;p=305" TargetMode="External"/><Relationship Id="rId41" Type="http://schemas.openxmlformats.org/officeDocument/2006/relationships/hyperlink" Target="http://rai77.ru/viewtopic.php?f=11&amp;p=305" TargetMode="External"/><Relationship Id="rId42" Type="http://schemas.openxmlformats.org/officeDocument/2006/relationships/hyperlink" Target="http://rai77.ru/viewtopic.php?f=11&amp;p=305" TargetMode="External"/><Relationship Id="rId43" Type="http://schemas.openxmlformats.org/officeDocument/2006/relationships/hyperlink" Target="http://rai77.ru/viewtopic.php?f=11&amp;p=305" TargetMode="External"/><Relationship Id="rId44" Type="http://schemas.openxmlformats.org/officeDocument/2006/relationships/hyperlink" Target="http://rai77.ru/viewtopic.php?f=11&amp;p=305" TargetMode="External"/><Relationship Id="rId45" Type="http://schemas.openxmlformats.org/officeDocument/2006/relationships/hyperlink" Target="http://rai77.ru/viewtopic.php?f=11&amp;p=305" TargetMode="External"/><Relationship Id="rId46" Type="http://schemas.openxmlformats.org/officeDocument/2006/relationships/hyperlink" Target="http://rai77.ru/viewtopic.php?f=11&amp;p=305" TargetMode="External"/><Relationship Id="rId47" Type="http://schemas.openxmlformats.org/officeDocument/2006/relationships/hyperlink" Target="http://rai77.ru/viewtopic.php?f=11&amp;p=305" TargetMode="External"/><Relationship Id="rId48" Type="http://schemas.openxmlformats.org/officeDocument/2006/relationships/hyperlink" Target="http://rai77.ru/viewtopic.php?f=11&amp;p=305" TargetMode="External"/><Relationship Id="rId49" Type="http://schemas.openxmlformats.org/officeDocument/2006/relationships/hyperlink" Target="http://rai77.ru/viewtopic.php?f=11&amp;p=305" TargetMode="External"/><Relationship Id="rId50" Type="http://schemas.openxmlformats.org/officeDocument/2006/relationships/hyperlink" Target="http://rai77.ru/viewtopic.php?f=11&amp;p=305" TargetMode="External"/><Relationship Id="rId51" Type="http://schemas.openxmlformats.org/officeDocument/2006/relationships/hyperlink" Target="http://pochemuha.ru/pochemu-yaroslava-prozvali-mudrym" TargetMode="External"/><Relationship Id="rId52" Type="http://schemas.openxmlformats.org/officeDocument/2006/relationships/hyperlink" Target="http://pochemuha.ru/pochemu-yaroslava-prozvali-mudrym" TargetMode="External"/><Relationship Id="rId53" Type="http://schemas.openxmlformats.org/officeDocument/2006/relationships/hyperlink" Target="http://pochemuha.ru/pochemu-yaroslava-prozvali-mudrym" TargetMode="External"/><Relationship Id="rId54" Type="http://schemas.openxmlformats.org/officeDocument/2006/relationships/hyperlink" Target="http://pochemuha.ru/pochemu-yaroslava-prozvali-mudrym" TargetMode="External"/><Relationship Id="rId55" Type="http://schemas.openxmlformats.org/officeDocument/2006/relationships/hyperlink" Target="http://pochemuha.ru/pochemu-yaroslava-prozvali-mudrym" TargetMode="External"/><Relationship Id="rId56" Type="http://schemas.openxmlformats.org/officeDocument/2006/relationships/hyperlink" Target="http://pochemuha.ru/pochemu-yaroslava-prozvali-mudrym" TargetMode="External"/><Relationship Id="rId57" Type="http://schemas.openxmlformats.org/officeDocument/2006/relationships/hyperlink" Target="http://pochemuha.ru/pochemu-yaroslava-prozvali-mudrym" TargetMode="External"/><Relationship Id="rId58" Type="http://schemas.openxmlformats.org/officeDocument/2006/relationships/hyperlink" Target="http://pochemuha.ru/pochemu-yaroslava-prozvali-mudrym" TargetMode="External"/><Relationship Id="rId59" Type="http://schemas.openxmlformats.org/officeDocument/2006/relationships/hyperlink" Target="http://pochemuha.ru/pochemu-yaroslava-prozvali-mudrym" TargetMode="External"/><Relationship Id="rId60" Type="http://schemas.openxmlformats.org/officeDocument/2006/relationships/hyperlink" Target="http://pochemuha.ru/pochemu-yaroslava-prozvali-mudrym" TargetMode="External"/><Relationship Id="rId61" Type="http://schemas.openxmlformats.org/officeDocument/2006/relationships/hyperlink" Target="http://pochemuha.ru/pochemu-yaroslava-prozvali-mudrym" TargetMode="External"/><Relationship Id="rId62" Type="http://schemas.openxmlformats.org/officeDocument/2006/relationships/hyperlink" Target="http://pochemuha.ru/pochemu-yaroslava-prozvali-mudrym" TargetMode="External"/><Relationship Id="rId63" Type="http://schemas.openxmlformats.org/officeDocument/2006/relationships/hyperlink" Target="http://pochemuha.ru/pochemu-yaroslava-prozvali-mudrym" TargetMode="External"/><Relationship Id="rId64" Type="http://schemas.openxmlformats.org/officeDocument/2006/relationships/hyperlink" Target="http://fotkidepo.ru/?id=photo:524915" TargetMode="External"/><Relationship Id="rId65" Type="http://schemas.openxmlformats.org/officeDocument/2006/relationships/hyperlink" Target="http://fotkidepo.ru/?id=photo:524915" TargetMode="External"/><Relationship Id="rId66" Type="http://schemas.openxmlformats.org/officeDocument/2006/relationships/hyperlink" Target="http://fotkidepo.ru/?id=photo:524915" TargetMode="External"/><Relationship Id="rId67" Type="http://schemas.openxmlformats.org/officeDocument/2006/relationships/hyperlink" Target="http://fotkidepo.ru/?id=photo:524915" TargetMode="External"/><Relationship Id="rId68" Type="http://schemas.openxmlformats.org/officeDocument/2006/relationships/hyperlink" Target="http://fotkidepo.ru/?id=photo:524915" TargetMode="External"/><Relationship Id="rId69" Type="http://schemas.openxmlformats.org/officeDocument/2006/relationships/hyperlink" Target="http://fotkidepo.ru/?id=photo:524915" TargetMode="External"/><Relationship Id="rId70" Type="http://schemas.openxmlformats.org/officeDocument/2006/relationships/hyperlink" Target="http://fotkidepo.ru/?id=photo:524915" TargetMode="External"/><Relationship Id="rId71" Type="http://schemas.openxmlformats.org/officeDocument/2006/relationships/hyperlink" Target="http://fotkidepo.ru/?id=photo:524915" TargetMode="External"/><Relationship Id="rId72" Type="http://schemas.openxmlformats.org/officeDocument/2006/relationships/hyperlink" Target="http://fotkidepo.ru/?id=photo:524915" TargetMode="External"/><Relationship Id="rId73" Type="http://schemas.openxmlformats.org/officeDocument/2006/relationships/hyperlink" Target="http://fotkidepo.ru/?id=photo:524915" TargetMode="External"/><Relationship Id="rId74" Type="http://schemas.openxmlformats.org/officeDocument/2006/relationships/hyperlink" Target="http://www.lib.csu.ru/texts/000019/Part2_3/lecture1/cadr1.html" TargetMode="External"/><Relationship Id="rId75" Type="http://schemas.openxmlformats.org/officeDocument/2006/relationships/hyperlink" Target="http://www.lib.csu.ru/texts/000019/Part2_3/lecture1/cadr1.html" TargetMode="External"/><Relationship Id="rId76" Type="http://schemas.openxmlformats.org/officeDocument/2006/relationships/hyperlink" Target="http://www.lib.csu.ru/texts/000019/Part2_3/lecture1/cadr1.html" TargetMode="External"/><Relationship Id="rId77" Type="http://schemas.openxmlformats.org/officeDocument/2006/relationships/hyperlink" Target="http://www.lib.csu.ru/texts/000019/Part2_3/lecture1/cadr1.html" TargetMode="External"/><Relationship Id="rId78" Type="http://schemas.openxmlformats.org/officeDocument/2006/relationships/hyperlink" Target="http://www.lib.csu.ru/texts/000019/Part2_3/lecture1/cadr1.html" TargetMode="External"/><Relationship Id="rId79" Type="http://schemas.openxmlformats.org/officeDocument/2006/relationships/hyperlink" Target="http://www.lib.csu.ru/texts/000019/Part2_3/lecture1/cadr1.html" TargetMode="External"/><Relationship Id="rId80" Type="http://schemas.openxmlformats.org/officeDocument/2006/relationships/hyperlink" Target="http://www.lib.csu.ru/texts/000019/Part2_3/lecture1/cadr1.html" TargetMode="External"/><Relationship Id="rId81" Type="http://schemas.openxmlformats.org/officeDocument/2006/relationships/hyperlink" Target="http://www.lib.csu.ru/texts/000019/Part2_3/lecture1/cadr1.html" TargetMode="External"/><Relationship Id="rId82" Type="http://schemas.openxmlformats.org/officeDocument/2006/relationships/hyperlink" Target="http://www.lib.csu.ru/texts/000019/Part2_3/lecture1/cadr1.html" TargetMode="External"/><Relationship Id="rId83" Type="http://schemas.openxmlformats.org/officeDocument/2006/relationships/hyperlink" Target="http://www.lib.csu.ru/texts/000019/Part2_3/lecture1/cadr1.html" TargetMode="External"/><Relationship Id="rId84" Type="http://schemas.openxmlformats.org/officeDocument/2006/relationships/hyperlink" Target="http://www.lib.csu.ru/texts/000019/Part2_3/lecture1/cadr1.html" TargetMode="External"/><Relationship Id="rId85" Type="http://schemas.openxmlformats.org/officeDocument/2006/relationships/hyperlink" Target="http://www.lib.csu.ru/texts/000019/Part2_3/lecture1/cadr1.html" TargetMode="External"/><Relationship Id="rId86" Type="http://schemas.openxmlformats.org/officeDocument/2006/relationships/hyperlink" Target="http://www.lib.csu.ru/texts/000019/Part2_3/lecture1/cadr1.html" TargetMode="External"/><Relationship Id="rId87" Type="http://schemas.openxmlformats.org/officeDocument/2006/relationships/hyperlink" Target="http://www.lib.csu.ru/texts/000019/Part2_3/lecture1/cadr1.html" TargetMode="External"/><Relationship Id="rId88" Type="http://schemas.openxmlformats.org/officeDocument/2006/relationships/hyperlink" Target="http://www.lib.csu.ru/texts/000019/Part2_3/lecture1/cadr1.html" TargetMode="External"/><Relationship Id="rId89" Type="http://schemas.openxmlformats.org/officeDocument/2006/relationships/hyperlink" Target="http://www.lib.csu.ru/texts/000019/Part2_3/lecture1/cadr1.html" TargetMode="External"/><Relationship Id="rId90" Type="http://schemas.openxmlformats.org/officeDocument/2006/relationships/hyperlink" Target="http://www.lib.csu.ru/texts/000019/Part2_3/lecture1/cadr1.html" TargetMode="External"/><Relationship Id="rId91" Type="http://schemas.openxmlformats.org/officeDocument/2006/relationships/hyperlink" Target="http://www.lib.csu.ru/texts/000019/Part2_3/lecture1/cadr1.html" TargetMode="External"/><Relationship Id="rId92" Type="http://schemas.openxmlformats.org/officeDocument/2006/relationships/hyperlink" Target="http://www.lib.csu.ru/texts/000019/Part2_3/lecture1/cadr1.html" TargetMode="External"/><Relationship Id="rId93" Type="http://schemas.openxmlformats.org/officeDocument/2006/relationships/hyperlink" Target="http://www.e-reading.org.ua/bookreader.php/84328/Balyazin_-_" TargetMode="External"/><Relationship Id="rId94" Type="http://schemas.openxmlformats.org/officeDocument/2006/relationships/hyperlink" Target="http://www.e-reading.org.ua/bookreader.php/84328/Balyazin_-_" TargetMode="External"/><Relationship Id="rId95" Type="http://schemas.openxmlformats.org/officeDocument/2006/relationships/hyperlink" Target="http://www.e-reading.org.ua/bookreader.php/84328/Balyazin_-_" TargetMode="External"/><Relationship Id="rId96" Type="http://schemas.openxmlformats.org/officeDocument/2006/relationships/hyperlink" Target="http://www.e-reading.org.ua/bookreader.php/84328/Balyazin_-_" TargetMode="External"/><Relationship Id="rId97" Type="http://schemas.openxmlformats.org/officeDocument/2006/relationships/hyperlink" Target="http://www.e-reading.org.ua/bookreader.php/84328/Balyazin_-_" TargetMode="External"/><Relationship Id="rId98" Type="http://schemas.openxmlformats.org/officeDocument/2006/relationships/hyperlink" Target="http://www.e-reading.org.ua/bookreader.php/84328/Balyazin_-_" TargetMode="External"/><Relationship Id="rId99" Type="http://schemas.openxmlformats.org/officeDocument/2006/relationships/hyperlink" Target="http://www.e-reading.org.ua/bookreader.php/84328/Balyazin_-_" TargetMode="External"/><Relationship Id="rId100" Type="http://schemas.openxmlformats.org/officeDocument/2006/relationships/hyperlink" Target="http://www.e-reading.org.ua/bookreader.php/84328/Balyazin_-_" TargetMode="External"/><Relationship Id="rId101" Type="http://schemas.openxmlformats.org/officeDocument/2006/relationships/hyperlink" Target="http://www.e-reading.org.ua/bookreader.php/84328/Balyazin_-_" TargetMode="External"/><Relationship Id="rId102" Type="http://schemas.openxmlformats.org/officeDocument/2006/relationships/hyperlink" Target="http://www.e-reading.org.ua/bookreader.php/84328/Balyazin_-_" TargetMode="External"/><Relationship Id="rId103" Type="http://schemas.openxmlformats.org/officeDocument/2006/relationships/hyperlink" Target="http://www.e-reading.org.ua/bookreader.php/84328/Balyazin_-_" TargetMode="External"/><Relationship Id="rId104" Type="http://schemas.openxmlformats.org/officeDocument/2006/relationships/hyperlink" Target="http://www.e-reading.org.ua/bookreader.php/84328/Balyazin_-_" TargetMode="External"/><Relationship Id="rId105" Type="http://schemas.openxmlformats.org/officeDocument/2006/relationships/hyperlink" Target="http://www.e-reading.org.ua/bookreader.php/84328/Balyazin_-_" TargetMode="External"/><Relationship Id="rId106" Type="http://schemas.openxmlformats.org/officeDocument/2006/relationships/hyperlink" Target="http://www.e-reading.org.ua/bookreader.php/84328/Balyazin_-_" TargetMode="External"/><Relationship Id="rId107" Type="http://schemas.openxmlformats.org/officeDocument/2006/relationships/hyperlink" Target="http://www.e-reading.org.ua/bookreader.php/84328/Balyazin_-_" TargetMode="External"/><Relationship Id="rId108" Type="http://schemas.openxmlformats.org/officeDocument/2006/relationships/hyperlink" Target="http://www.e-reading.org.ua/bookreader.php/84328/Balyazin_-_" TargetMode="External"/><Relationship Id="rId109" Type="http://schemas.openxmlformats.org/officeDocument/2006/relationships/hyperlink" Target="http://www.e-reading.org.ua/bookreader.php/84328/Balyazin_-_" TargetMode="External"/><Relationship Id="rId110" Type="http://schemas.openxmlformats.org/officeDocument/2006/relationships/hyperlink" Target="http://www.e-reading.org.ua/bookreader.php/84328/Balyazin_-_" TargetMode="External"/><Relationship Id="rId111" Type="http://schemas.openxmlformats.org/officeDocument/2006/relationships/hyperlink" Target="http://economic.ispu.ru/history/part1/02tema2/shema2/06socstruktura.html" TargetMode="External"/><Relationship Id="rId112" Type="http://schemas.openxmlformats.org/officeDocument/2006/relationships/hyperlink" Target="http://economic.ispu.ru/history/part1/02tema2/shema2/06socstruktura.html" TargetMode="External"/><Relationship Id="rId113" Type="http://schemas.openxmlformats.org/officeDocument/2006/relationships/hyperlink" Target="http://economic.ispu.ru/history/part1/02tema2/shema2/06socstruktura.html" TargetMode="External"/><Relationship Id="rId114" Type="http://schemas.openxmlformats.org/officeDocument/2006/relationships/hyperlink" Target="http://economic.ispu.ru/history/part1/02tema2/shema2/06socstruktura.html" TargetMode="External"/><Relationship Id="rId115" Type="http://schemas.openxmlformats.org/officeDocument/2006/relationships/hyperlink" Target="http://economic.ispu.ru/history/part1/02tema2/shema2/06socstruktura.html" TargetMode="External"/><Relationship Id="rId116" Type="http://schemas.openxmlformats.org/officeDocument/2006/relationships/hyperlink" Target="http://economic.ispu.ru/history/part1/02tema2/shema2/06socstruktura.html" TargetMode="External"/><Relationship Id="rId117" Type="http://schemas.openxmlformats.org/officeDocument/2006/relationships/hyperlink" Target="http://economic.ispu.ru/history/part1/02tema2/shema2/06socstruktura.html" TargetMode="External"/><Relationship Id="rId118" Type="http://schemas.openxmlformats.org/officeDocument/2006/relationships/hyperlink" Target="http://economic.ispu.ru/history/part1/02tema2/shema2/06socstruktura.html" TargetMode="External"/><Relationship Id="rId119" Type="http://schemas.openxmlformats.org/officeDocument/2006/relationships/hyperlink" Target="http://economic.ispu.ru/history/part1/02tema2/shema2/06socstruktura.html" TargetMode="External"/><Relationship Id="rId120" Type="http://schemas.openxmlformats.org/officeDocument/2006/relationships/hyperlink" Target="http://economic.ispu.ru/history/part1/02tema2/shema2/06socstruktura.html" TargetMode="External"/><Relationship Id="rId121" Type="http://schemas.openxmlformats.org/officeDocument/2006/relationships/hyperlink" Target="http://economic.ispu.ru/history/part1/02tema2/shema2/06socstruktura.html" TargetMode="External"/><Relationship Id="rId122" Type="http://schemas.openxmlformats.org/officeDocument/2006/relationships/hyperlink" Target="http://economic.ispu.ru/history/part1/02tema2/shema2/06socstruktura.html" TargetMode="External"/><Relationship Id="rId123" Type="http://schemas.openxmlformats.org/officeDocument/2006/relationships/hyperlink" Target="http://economic.ispu.ru/history/part1/02tema2/shema2/06socstruktura.html" TargetMode="External"/><Relationship Id="rId124" Type="http://schemas.openxmlformats.org/officeDocument/2006/relationships/hyperlink" Target="http://economic.ispu.ru/history/part1/02tema2/shema2/06socstruktura.html" TargetMode="External"/><Relationship Id="rId1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отнесите имена первых русских князей и меры их политик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844640"/>
          <a:ext cx="8218440" cy="4635360"/>
        </p:xfrm>
        <a:graphic>
          <a:graphicData uri="http://schemas.openxmlformats.org/drawingml/2006/table">
            <a:tbl>
              <a:tblPr/>
              <a:tblGrid>
                <a:gridCol w="2303280"/>
                <a:gridCol w="591516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ле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d1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рещение Рус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d1ec">
                        <a:alpha val="50000"/>
                      </a:srgbClr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гор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d1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втор первой налоговой реформы на Рус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d1ec">
                        <a:alpha val="50000"/>
                      </a:srgbClr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ль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d1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бъединение русских земель под властью Кие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d1ec">
                        <a:alpha val="50000"/>
                      </a:srgbClr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вятосла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d1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ходе полюдья 945г был убит древлян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d1ec">
                        <a:alpha val="50000"/>
                      </a:srgbClr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ладими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6d1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вершил многочисленные военные по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6d1e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219320" cy="1076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357120" y="1300320"/>
            <a:ext cx="8572680" cy="5343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3581280" y="3048120"/>
            <a:ext cx="762120" cy="6951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428760" y="112680"/>
            <a:ext cx="814392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Как изменился Киев при Яросла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правление государством при Ярославе Мудр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Прямая со стрелкой 7"/>
          <p:cNvCxnSpPr/>
          <p:nvPr/>
        </p:nvCxnSpPr>
        <p:spPr>
          <a:xfrm flipH="1">
            <a:off x="2194920" y="2778480"/>
            <a:ext cx="1585080" cy="1081800"/>
          </a:xfrm>
          <a:prstGeom prst="straightConnector1">
            <a:avLst/>
          </a:prstGeom>
          <a:ln w="5724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196" name="Прямая со стрелкой 10"/>
          <p:cNvCxnSpPr/>
          <p:nvPr/>
        </p:nvCxnSpPr>
        <p:spPr>
          <a:xfrm flipH="1">
            <a:off x="3850920" y="2709360"/>
            <a:ext cx="505440" cy="2375280"/>
          </a:xfrm>
          <a:prstGeom prst="straightConnector1">
            <a:avLst/>
          </a:prstGeom>
          <a:ln w="5724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197" name="Прямая со стрелкой 13"/>
          <p:cNvCxnSpPr/>
          <p:nvPr/>
        </p:nvCxnSpPr>
        <p:spPr>
          <a:xfrm>
            <a:off x="4932000" y="2709720"/>
            <a:ext cx="1080360" cy="648360"/>
          </a:xfrm>
          <a:prstGeom prst="straightConnector1">
            <a:avLst/>
          </a:prstGeom>
          <a:ln w="5724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198" name="Прямая со стрелкой 20"/>
          <p:cNvCxnSpPr/>
          <p:nvPr/>
        </p:nvCxnSpPr>
        <p:spPr>
          <a:xfrm flipH="1">
            <a:off x="6803640" y="4078080"/>
            <a:ext cx="2160" cy="648360"/>
          </a:xfrm>
          <a:prstGeom prst="straightConnector1">
            <a:avLst/>
          </a:prstGeom>
          <a:ln w="57240">
            <a:solidFill>
              <a:srgbClr val="800080"/>
            </a:solidFill>
            <a:miter/>
            <a:tailEnd len="med" type="arrow" w="med"/>
          </a:ln>
        </p:spPr>
      </p:cxnSp>
      <p:sp>
        <p:nvSpPr>
          <p:cNvPr id="199" name="Rectangle 3"/>
          <p:cNvSpPr/>
          <p:nvPr/>
        </p:nvSpPr>
        <p:spPr>
          <a:xfrm>
            <a:off x="1908000" y="1701720"/>
            <a:ext cx="49183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Князь Киевск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50920" y="3718080"/>
            <a:ext cx="3527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Наместн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022480" y="4941720"/>
            <a:ext cx="3527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Посадн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003640" y="3141720"/>
            <a:ext cx="3527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Веч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5219640" y="4797360"/>
            <a:ext cx="352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Народное опол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icdn.lenta.ru/images/0000/0092/000000920104/pic_1358521975.jpg"/>
          <p:cNvPicPr/>
          <p:nvPr/>
        </p:nvPicPr>
        <p:blipFill>
          <a:blip r:embed="rId1"/>
          <a:stretch/>
        </p:blipFill>
        <p:spPr>
          <a:xfrm>
            <a:off x="5651640" y="438480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1692360" y="404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зкультминут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31640" y="1341360"/>
            <a:ext cx="601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оловой кивает слон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н слонихе шлет покл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дох глубокий выдох пол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азгулялись в море вол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уки вверх поднять по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ружно ловим ком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пустили руки вни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стойку прежнюю верн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4604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258920" y="1700280"/>
            <a:ext cx="678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036 г. – разбил печене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сновал г.Юрьев (1030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оговор с Польш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оговор с Византией (1043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инастические браки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Рисунок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50920" y="0"/>
            <a:ext cx="794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сновные сло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внерусского населе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611280" y="2781360"/>
            <a:ext cx="820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ветские                                              смер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церковные                                            заку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нязь                                                   рядовичи</a:t>
            </a:r>
            <a:r>
              <a:rPr b="1" i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аршие дружинники                          холопы           </a:t>
            </a:r>
            <a:br>
              <a:rPr sz="2400"/>
            </a:b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(бояре)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      (челядь)</a:t>
            </a:r>
            <a:r>
              <a:rPr b="1" i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младшие дружин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духовенство</a:t>
            </a:r>
            <a:r>
              <a:rPr b="1" i="1" lang="ru-RU" sz="2400" spc="-1" strike="noStrike">
                <a:solidFill>
                  <a:srgbClr val="00008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Прямая со стрелкой 4"/>
          <p:cNvCxnSpPr/>
          <p:nvPr/>
        </p:nvCxnSpPr>
        <p:spPr>
          <a:xfrm flipH="1">
            <a:off x="1692000" y="1124280"/>
            <a:ext cx="1296000" cy="35964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213" name="Прямая со стрелкой 7"/>
          <p:cNvCxnSpPr/>
          <p:nvPr/>
        </p:nvCxnSpPr>
        <p:spPr>
          <a:xfrm flipH="1">
            <a:off x="4066920" y="1123920"/>
            <a:ext cx="2160" cy="505440"/>
          </a:xfrm>
          <a:prstGeom prst="straightConnector1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214" name="Прямая со стрелкой 10"/>
          <p:cNvCxnSpPr/>
          <p:nvPr/>
        </p:nvCxnSpPr>
        <p:spPr>
          <a:xfrm>
            <a:off x="5003640" y="1125000"/>
            <a:ext cx="1656720" cy="359640"/>
          </a:xfrm>
          <a:prstGeom prst="straightConnector1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215" name="Прямая со стрелкой 15"/>
          <p:cNvCxnSpPr/>
          <p:nvPr/>
        </p:nvCxnSpPr>
        <p:spPr>
          <a:xfrm flipH="1">
            <a:off x="6587280" y="2391840"/>
            <a:ext cx="2520" cy="469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216" name="Прямая со стрелкой 18"/>
          <p:cNvCxnSpPr/>
          <p:nvPr/>
        </p:nvCxnSpPr>
        <p:spPr>
          <a:xfrm flipH="1">
            <a:off x="1474560" y="2060280"/>
            <a:ext cx="2160" cy="71964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217" name="Rectangle 10"/>
          <p:cNvSpPr/>
          <p:nvPr/>
        </p:nvSpPr>
        <p:spPr>
          <a:xfrm>
            <a:off x="686520" y="155268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Феода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2841120" y="1547640"/>
            <a:ext cx="262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Свобод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земледель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5523480" y="1506600"/>
            <a:ext cx="22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Зависи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насе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285920" y="121428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одальное владение-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бщинные зем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бъявленные собственностью князя- феод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1500120" y="428760"/>
            <a:ext cx="600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Новые термины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285920" y="2071800"/>
            <a:ext cx="728676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чина –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наследственное земельное держ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Посадник (наместник</a:t>
            </a: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– назначаемый или выборный глава местной в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Боярин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старший дружинник, крупный землевладелец, владелец вотч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Династический брак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– брак между представителями правящих династий разных государ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Политика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искусство управлять государств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62b"/>
                </a:solidFill>
                <a:latin typeface="Arial"/>
              </a:rPr>
              <a:t>Общество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– люди, объединенные общей жизнью и деятельностью в одном государ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62b"/>
                </a:solidFill>
                <a:latin typeface="Arial"/>
              </a:rPr>
              <a:t>Усобицы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княжеские раздоры на Рус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62b"/>
                </a:solidFill>
                <a:latin typeface="Arial"/>
              </a:rPr>
              <a:t>Холопы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зависимое население Древней Руси, близкое по положению к раб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Почему князь Ярослав получил                              прозвище «Мудрый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3711240" y="115920"/>
            <a:ext cx="130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252360" y="981000"/>
            <a:ext cx="48196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. Кого народ прозвал Окаянны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) Владим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) Святопол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) Яросл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. Первые святые на Рус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) Яросл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) Борис и Гле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) Святосл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3. Годы прав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Яросла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) 1019-10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) 1019-10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) 1019-10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4. С какой страной не был заключен      династический бра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) 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) Исп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) Норве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214960" y="5826240"/>
            <a:ext cx="3749760" cy="45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1Б; 2Б; 3А; 4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1114560" y="981000"/>
            <a:ext cx="6913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  <a:ea typeface="Arial"/>
              </a:rPr>
              <a:t>§</a:t>
            </a:r>
            <a:r>
              <a:rPr b="1" i="1" lang="ru-RU" sz="4400" spc="-1" strike="noStrike">
                <a:solidFill>
                  <a:srgbClr val="cc0000"/>
                </a:solidFill>
                <a:latin typeface="Arial"/>
                <a:ea typeface="Arial"/>
              </a:rPr>
              <a:t> 6, ответить на вопросы стр. 53, прочитать документ стр. 5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15920" y="3213000"/>
            <a:ext cx="50036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урок истории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601927520"/>
          <p:cNvPicPr/>
          <p:nvPr/>
        </p:nvPicPr>
        <p:blipFill>
          <a:blip r:embed="rId2"/>
          <a:stretch/>
        </p:blipFill>
        <p:spPr>
          <a:xfrm>
            <a:off x="0" y="3573360"/>
            <a:ext cx="2422440" cy="3284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6" name="Picture 6" descr="7b47600e0d692a88e0efee5bf06"/>
          <p:cNvPicPr/>
          <p:nvPr/>
        </p:nvPicPr>
        <p:blipFill>
          <a:blip r:embed="rId3"/>
          <a:stretch/>
        </p:blipFill>
        <p:spPr>
          <a:xfrm>
            <a:off x="6427800" y="3573360"/>
            <a:ext cx="2716200" cy="3284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7" name="WordArt 8"/>
          <p:cNvSpPr txBox="1"/>
          <p:nvPr/>
        </p:nvSpPr>
        <p:spPr>
          <a:xfrm>
            <a:off x="468360" y="979560"/>
            <a:ext cx="7993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Расцвет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древнерусского государства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при Ярославе Мудром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843280" y="5056200"/>
            <a:ext cx="3203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мова  Н.Г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08000" y="-277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250920" y="785880"/>
            <a:ext cx="8393040" cy="58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500040" y="1060560"/>
            <a:ext cx="8072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"/>
              </a:rPr>
              <a:t>kremlion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"/>
              </a:rPr>
              <a:t>praviteli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"/>
              </a:rPr>
              <a:t>yaroslav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"/>
              </a:rPr>
              <a:t>htt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2"/>
              </a:rPr>
              <a:t>:/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3"/>
              </a:rPr>
              <a:t>www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4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5"/>
              </a:rPr>
              <a:t>kostyor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6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7"/>
              </a:rPr>
              <a:t>ru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9"/>
              </a:rPr>
              <a:t>archives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0"/>
              </a:rPr>
              <a:t>/8-09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1"/>
              </a:rPr>
              <a:t>question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2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3"/>
              </a:rPr>
              <a:t>ph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4"/>
              </a:rPr>
              <a:t>htt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5"/>
              </a:rPr>
              <a:t>:/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6"/>
              </a:rPr>
              <a:t>www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7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8"/>
              </a:rPr>
              <a:t>russia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29"/>
              </a:rPr>
              <a:t>-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0"/>
              </a:rPr>
              <a:t>talk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1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2"/>
              </a:rPr>
              <a:t>com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3"/>
              </a:rPr>
              <a:t>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4"/>
              </a:rPr>
              <a:t>history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5"/>
              </a:rPr>
              <a:t>/09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6"/>
              </a:rPr>
              <a:t>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7"/>
              </a:rPr>
              <a:t>htt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8"/>
              </a:rPr>
              <a:t>:/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39"/>
              </a:rPr>
              <a:t>rai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0"/>
              </a:rPr>
              <a:t>77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1"/>
              </a:rPr>
              <a:t>ru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2"/>
              </a:rPr>
              <a:t>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3"/>
              </a:rPr>
              <a:t>viewtopic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4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5"/>
              </a:rPr>
              <a:t>ph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6"/>
              </a:rPr>
              <a:t>?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7"/>
              </a:rPr>
              <a:t>f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8"/>
              </a:rPr>
              <a:t>=11&amp;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49"/>
              </a:rPr>
              <a:t>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0"/>
              </a:rPr>
              <a:t>=30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1"/>
              </a:rPr>
              <a:t>htt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2"/>
              </a:rPr>
              <a:t>:/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3"/>
              </a:rPr>
              <a:t>pochemuha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4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5"/>
              </a:rPr>
              <a:t>ru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6"/>
              </a:rPr>
              <a:t>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7"/>
              </a:rPr>
              <a:t>pochemu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8"/>
              </a:rPr>
              <a:t>-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59"/>
              </a:rPr>
              <a:t>yaroslava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0"/>
              </a:rPr>
              <a:t>-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1"/>
              </a:rPr>
              <a:t>prozvali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2"/>
              </a:rPr>
              <a:t>-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3"/>
              </a:rPr>
              <a:t>mudry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4"/>
              </a:rPr>
              <a:t>htt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5"/>
              </a:rPr>
              <a:t>:/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6"/>
              </a:rPr>
              <a:t>fotkidepo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7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8"/>
              </a:rPr>
              <a:t>ru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69"/>
              </a:rPr>
              <a:t>/?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0"/>
              </a:rPr>
              <a:t>id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1"/>
              </a:rPr>
              <a:t>=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2"/>
              </a:rPr>
              <a:t>photo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3"/>
              </a:rPr>
              <a:t>:52491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4"/>
              </a:rPr>
              <a:t>htt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5"/>
              </a:rPr>
              <a:t>:/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6"/>
              </a:rPr>
              <a:t>www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7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8"/>
              </a:rPr>
              <a:t>lib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79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0"/>
              </a:rPr>
              <a:t>csu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1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2"/>
              </a:rPr>
              <a:t>ru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3"/>
              </a:rPr>
              <a:t>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4"/>
              </a:rPr>
              <a:t>texts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5"/>
              </a:rPr>
              <a:t>/000019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6"/>
              </a:rPr>
              <a:t>Part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7"/>
              </a:rPr>
              <a:t>2_3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8"/>
              </a:rPr>
              <a:t>lecture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89"/>
              </a:rPr>
              <a:t>1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0"/>
              </a:rPr>
              <a:t>cadr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1"/>
              </a:rPr>
              <a:t>1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2"/>
              </a:rPr>
              <a:t>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3"/>
              </a:rPr>
              <a:t>htt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4"/>
              </a:rPr>
              <a:t>:/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5"/>
              </a:rPr>
              <a:t>www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6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7"/>
              </a:rPr>
              <a:t>e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8"/>
              </a:rPr>
              <a:t>-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99"/>
              </a:rPr>
              <a:t>reading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0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1"/>
              </a:rPr>
              <a:t>org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2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3"/>
              </a:rPr>
              <a:t>ua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4"/>
              </a:rPr>
              <a:t>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5"/>
              </a:rPr>
              <a:t>bookreader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6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7"/>
              </a:rPr>
              <a:t>ph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8"/>
              </a:rPr>
              <a:t>/84328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09"/>
              </a:rPr>
              <a:t>Balyazin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0"/>
              </a:rPr>
              <a:t>_-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1"/>
              </a:rPr>
              <a:t>http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2"/>
              </a:rPr>
              <a:t>:/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3"/>
              </a:rPr>
              <a:t>economic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4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5"/>
              </a:rPr>
              <a:t>ispu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6"/>
              </a:rPr>
              <a:t>.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7"/>
              </a:rPr>
              <a:t>ru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8"/>
              </a:rPr>
              <a:t>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19"/>
              </a:rPr>
              <a:t>history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20"/>
              </a:rPr>
              <a:t>/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21"/>
              </a:rPr>
              <a:t>part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22"/>
              </a:rPr>
              <a:t>1/02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23"/>
              </a:rPr>
              <a:t>tema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Times New Roman"/>
                <a:ea typeface="Times New Roman"/>
                <a:hlinkClick r:id="rId124"/>
              </a:rPr>
              <a:t>2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m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struktur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642960" y="214200"/>
            <a:ext cx="7858080" cy="520560"/>
          </a:xfrm>
          <a:prstGeom prst="rect">
            <a:avLst/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ова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атериа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Рисунок1"/>
          <p:cNvPicPr/>
          <p:nvPr/>
        </p:nvPicPr>
        <p:blipFill>
          <a:blip r:embed="rId1"/>
          <a:stretch/>
        </p:blipFill>
        <p:spPr>
          <a:xfrm>
            <a:off x="284040" y="324000"/>
            <a:ext cx="8575920" cy="62100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2"/>
          <p:cNvSpPr/>
          <p:nvPr/>
        </p:nvSpPr>
        <p:spPr>
          <a:xfrm>
            <a:off x="4286160" y="4572000"/>
            <a:ext cx="435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 Black"/>
              </a:rPr>
              <a:t>За годы своего правления Ярослав много сделал для укрепления русского государства, за что б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Arial Black"/>
              </a:rPr>
              <a:t>назван "Мудрым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Почему князь Ярослав получил                              прозвище «Мудрый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1116000" y="11592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ывок из “Повести временных лет”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324000" y="1386000"/>
            <a:ext cx="8820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ыло у него (Владимира) 12 сыновей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посадил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Вышеслава в Новгород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зяслава в Полоцке, Святополка в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урове, Ярослава в Ростов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гда умер старший брат Вышесла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посадил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в нем (в Новгороде) Яросла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 Бориса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посадил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в Ростов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леба – в Муроме, Святослава в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ревлянской земле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няжески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об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7" descr="Рисунок3"/>
          <p:cNvPicPr/>
          <p:nvPr/>
        </p:nvPicPr>
        <p:blipFill>
          <a:blip r:embed="rId1"/>
          <a:stretch/>
        </p:blipFill>
        <p:spPr>
          <a:xfrm>
            <a:off x="4857840" y="1862280"/>
            <a:ext cx="3754440" cy="4995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Рисунок2"/>
          <p:cNvPicPr/>
          <p:nvPr/>
        </p:nvPicPr>
        <p:blipFill>
          <a:blip r:embed="rId2"/>
          <a:srcRect l="0" t="0" r="0" b="-41"/>
          <a:stretch/>
        </p:blipFill>
        <p:spPr>
          <a:xfrm>
            <a:off x="214200" y="857160"/>
            <a:ext cx="3071880" cy="486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нутренняя политика Яросл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Arial"/>
              </a:rPr>
              <a:t>Самостоятельное чтение стр 45-4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ff"/>
                </a:solidFill>
                <a:uFillTx/>
                <a:latin typeface="Arial"/>
              </a:rPr>
              <a:t>Ответить на вопрос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Arial"/>
              </a:rPr>
              <a:t>Что было сделано Ярославом во внутренней полити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Arial"/>
              </a:rPr>
              <a:t>За что получил прозвище Мудры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8" descr="J0285277"/>
          <p:cNvPicPr/>
          <p:nvPr/>
        </p:nvPicPr>
        <p:blipFill>
          <a:blip r:embed="rId5"/>
          <a:stretch/>
        </p:blipFill>
        <p:spPr>
          <a:xfrm>
            <a:off x="7010280" y="5334120"/>
            <a:ext cx="1600200" cy="1253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gradFill rotWithShape="0">
            <a:gsLst>
              <a:gs pos="0">
                <a:srgbClr val="e0e0e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 Меры по установлению в Киевской Руси порядка и зако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. В 1016г введен в действие первый на Руси писанный свод законов «Русская прав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3. Ограничена кровная месть, заменена денежным штрафом – в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Меры по укреплению независимости и самостоятельности русской церкви. Митрополит – русский. Первый – Иллари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5. Меры по развитию культуры: строительство храмов, создаются библиотеки, перевод книг, открываются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503280" y="404640"/>
            <a:ext cx="7885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611280" y="14288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571680" y="428760"/>
            <a:ext cx="7929360" cy="947160"/>
          </a:xfrm>
          <a:prstGeom prst="rect">
            <a:avLst/>
          </a:prstGeom>
          <a:gradFill rotWithShape="0">
            <a:gsLst>
              <a:gs pos="0">
                <a:srgbClr val="5779ff"/>
              </a:gs>
              <a:gs pos="100000">
                <a:srgbClr val="174f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здание первого свода законов «Русская прав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500040" y="15825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Заслугой Ярослава стало начало оформления письменного законодательства на Руси. В 1016 г. появился «Устав новгородцев» (другое название «Правда Ярослава»), сыновья князя составили «Правду Ярославичей» (1072), которую дополнили Владимир Мономах (внук Ярослава) и более поздние князья. Все эти законы составили первый древнерусский кодекс — «Русскую Правду». Здесь собраны обычаи и судебные решения, позволяющие нам узнать о жизни и быте людей того времени</a:t>
            </a:r>
            <a:r>
              <a:rPr b="1" i="1" lang="ru-RU" sz="1600" spc="-1" strike="noStrike">
                <a:solidFill>
                  <a:srgbClr val="161616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714240" y="3929040"/>
            <a:ext cx="4071960" cy="271476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Рисунок4"/>
          <p:cNvPicPr/>
          <p:nvPr/>
        </p:nvPicPr>
        <p:blipFill>
          <a:blip r:embed="rId1"/>
          <a:stretch/>
        </p:blipFill>
        <p:spPr>
          <a:xfrm>
            <a:off x="500040" y="254160"/>
            <a:ext cx="8109000" cy="635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1:41:53Z</dcterms:created>
  <dc:creator>Школа</dc:creator>
  <dc:description/>
  <dc:language>en-US</dc:language>
  <cp:lastModifiedBy>User7</cp:lastModifiedBy>
  <dcterms:modified xsi:type="dcterms:W3CDTF">2016-05-15T06:11:15Z</dcterms:modified>
  <cp:revision>58</cp:revision>
  <dc:subject/>
  <dc:title>Расцвет древнерусского государства при Ярославе Мудр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170000000000010243100207f6000400038000</vt:lpwstr>
  </property>
</Properties>
</file>